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0EA6-D2FA-4C66-BD8B-BF11E757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8814-7638-4BAC-83D4-E439504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A553-B5DC-4AE3-BEAB-71027759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02B8-2643-4E89-AD5F-18C3684E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8A8-2E81-4E06-9EB6-D87F86C5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447D-061B-47F2-94E8-10FB4CB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65FA-DB78-42D0-B786-12E294CA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84D9-91B9-4618-A948-A38595FA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713-1FAA-439F-9ED5-E5F8BB49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1501-3AA3-484D-81AB-ADDBB23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50BE-E186-4D3A-A45F-DC0415B6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94B9-496C-4827-B1FE-7827B171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5760-9EA7-4DCE-BB8D-110E55B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050-7236-4055-B4E5-3E706E1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EE9-6F38-443C-8FCF-A769AECB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47BA-41B8-47D1-BA8C-F3A8DC23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CE10-A794-4F89-902C-24FC045F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C1F2-D260-4B7E-89BE-D7283D71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3932-44B6-467D-B323-1D1B359B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E5DC-328F-4D27-91B5-D5B6458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C8BF-80C3-4F9F-969E-50E277D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7E5B-76B5-4655-A5F8-3CA7A9C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EEBC-E873-4196-930D-6BC861A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7175-14B5-45F8-BCE9-2CFA2CB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DA5F-01D9-4D1C-AC19-C05A00D365A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700B-1AE4-47F7-B2C5-B16C2EDCC12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8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2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т всичките гренландс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удени плани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всичките индийс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рещи равни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всякъде ни вик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ридателнн уст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ги избавим иск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лъст и суе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Дарил ги Бог напраз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безбройни добри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ето, те омраз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читат суе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ревност коленич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д камък и дър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богове нарич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ъчните си де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, братя, просвет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Дух божествен, свя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ени, възрод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Христова благода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явете Божи Агнец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жете Го на вси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славний Жизнодавец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решните души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40:30Z</dcterms:modified>
  <cp:revision>177</cp:revision>
  <dc:subject/>
  <dc:title>Slide 1</dc:title>
</cp:coreProperties>
</file>